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4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1F07-B2B8-4632-B90B-FE4A53011E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506D-347D-458D-A699-407BD1849F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D4C-868E-41EB-92EE-335A9516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324-C3AF-44AC-B63C-D7EA112F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F02-A693-44F7-BCD3-A1A89C74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FBD-4526-469D-B2DA-2352F5CF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8EF7-EE28-46DC-A8C4-B7655116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C989-E196-4C5E-8FAA-DAB37378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3C42-D321-4614-99E4-ECEBAAF0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BB03-77E8-4E7B-A9DC-092EA5CB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A3B8-61AB-4B3B-8085-BE273342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E5D5-BD10-49E2-9A10-098CDD27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E7EC-D8EA-48FE-8643-FF1EFFC6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82E-E779-404C-B9A2-9A9A5C17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4853-8EE0-4A76-8EC1-5D089C0F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CE22-C335-40DE-8302-ABD4EB2C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B393-B378-4A75-88F1-E585C6A7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1327-FF24-4C87-9426-E3EDE2C5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5F3D-F1EA-4E5B-B95F-51A4191E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4B7ED-6E54-41D4-9605-6294CC52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B5CCA-E779-4563-A560-E2DBC0A2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6101C-253B-49AC-9FEC-383306E0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3739F-CFF6-4634-8C0E-138331C9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D7D2F-7536-4B39-BA99-ACF7D804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0E4-C57A-40D7-B569-7037E1F7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CFF97-BA0D-4E96-BE89-BD7AE594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8CCAF-543E-48E7-8F17-30CB8D86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94F29-6F8C-4E7C-B13E-146EA611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FD914-24DC-4AB4-8167-66171BF0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7CE1-0144-464A-A26A-832922DA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6E4CF-4140-4B8D-9707-A4CAE11F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EBD7-7D03-49E1-A3D4-B8D26DBE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BE40D-174F-40B8-9899-22E6A382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7F9B7-D40A-4926-9B03-E2E5ABE8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9982C-C528-4FED-B0CF-B21C2BD0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BB1-93F0-49FC-93CA-23BB79C6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A9B5C-6981-4CF4-9E50-BA23349B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33841-6B2D-491F-91A9-BDE95599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15E11-AAAF-4D8B-91D8-D94827AA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B4516-1956-41DB-B045-D0C55CE5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67882-8BDD-4F5F-B9D5-4385E15D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B4CCE-5006-484D-BB15-458E9E30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D0103-ED54-483E-88C0-62805F16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61D88-EE10-408D-9443-B42D3BB8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CC661-3A0B-4541-867D-D21326B9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6E6-790D-4E8E-81AC-7E451459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974-CA6A-440D-A37F-ED025A6F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ED2-642B-41C8-A84E-1F2D5479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C6C-B8B8-4B7B-8E71-48EB7721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D8C-992C-4DED-BA4E-CDCA2BE9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9B4D-F8AD-45BC-BE50-7BE6CCA6D36A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63F9-99E7-4184-9143-DFF040E77327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E65A-EF22-4FEA-BAFE-401C10ED9DCD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EACB-8C06-41A7-BF0F-77C77DDB132F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5"/>
          <p:cNvSpPr/>
          <p:nvPr/>
        </p:nvSpPr>
        <p:spPr>
          <a:xfrm>
            <a:off x="25560" y="2514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X DETERMINATION AND DIFFERENTI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ctive genes on X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934640"/>
            <a:ext cx="6248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s in the pseudoautosomal region at the top of the short arm, as well as other genes on the short and long arms of the X chromosom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more genes remain active on the p arm of the inactive X, deletions of Xp cause more severe phenotypic effects than deletions of Xq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Sex Chromosomes and Abnormalities Sex chromosomes At the"/>
          <p:cNvPicPr/>
          <p:nvPr/>
        </p:nvPicPr>
        <p:blipFill>
          <a:blip r:embed="rId1"/>
          <a:srcRect l="75003" t="23334" r="0" b="0"/>
          <a:stretch/>
        </p:blipFill>
        <p:spPr>
          <a:xfrm>
            <a:off x="6686640" y="1600200"/>
            <a:ext cx="213336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YONIZA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t refers on the phenomenon in which the normal X chromosome is inactivated, while the X that carries the mutation remains active, the so-called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"avoided inactivation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of the X chromosome with mut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ifestation of hemophilia in heterozygous wom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XX-healthy woman;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X- carrier;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woman with hemophil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ROMOSOME INACTIV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19810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t is regulated by the X inactivation center (XIC) located on the long arm of the X chromosome (Hq13) –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XIST ge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he XIST gene is transcribed into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XIST-RN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XIST-RNA accumulates along the X chromosome and blocks it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t is not transmitted to another X in the nucleus. </a:t>
            </a:r>
            <a:br>
              <a:rPr sz="2200"/>
            </a:b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taneous silencing of the XIST locus on the active X chromosome is accomplished by methylation of the XIST regulatory sequence.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DNA methylation blocks expression of the XIST gene locu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8" name="Object 6"/>
          <p:cNvGraphicFramePr/>
          <p:nvPr/>
        </p:nvGraphicFramePr>
        <p:xfrm>
          <a:off x="6730920" y="2743200"/>
          <a:ext cx="2260800" cy="23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0920" y="2743200"/>
                    <a:ext cx="226080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DER (SEX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590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Gene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x (chromosomal constitution of the zygote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Gonad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x (determined by the presence of gonad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Phenotyp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x (external manifestation of gende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humans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човек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male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x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homogametou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all eggs contain only the X chromosom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e sex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heterogametous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types of spermatozoa: those containing the X and those containing the Y chromosom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Sex determin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t the moment of fertiliz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Formation of bipotential gonads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wo sets of separate ducts (Wolff's and Müller's) and undifferentiated external genital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Differentiation of gonads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bipotential gonad differentiates into a testis (in males, due to the effect of the SRY gene product – TDF) or into an ovary (in females, in the absence of the SRY gene product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Differentiation of internal genital ducts and external genital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X DETERMINATION IN HUMANS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596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ST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üllerian inhibiting substance-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MIS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TESTOSTERON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Leydigs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ll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toli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ll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uses regression of the Mullerian ducts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of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lffian du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(epididymis, vas deferens, seminal vesicles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V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k of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MI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lack of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osteron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of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 Mullerian ducts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inhibits development of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lffian duct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fallopian tubes, uterus, part of the vagina)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of female genitali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198108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6"/>
          <p:cNvSpPr/>
          <p:nvPr/>
        </p:nvSpPr>
        <p:spPr>
          <a:xfrm flipH="1">
            <a:off x="2819160" y="6858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63244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5029200" y="6858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9"/>
          <p:cNvSpPr/>
          <p:nvPr/>
        </p:nvSpPr>
        <p:spPr>
          <a:xfrm flipH="1">
            <a:off x="2057040" y="388620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5638680" y="3886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63244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-360" y="129528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 meiosis, the X and Y chromosomes behave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like homologou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utosomes, they synapse in prophase, and separate in anaphas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On the terminal parts of the X and Y chromosomes, there are small regions that synapse and recombine, called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pseudoautosomal regions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PARs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seudoautosomal regions are named according to genes located in these regions, and the inheritance they determine is similar to autosomal gen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y_140"/>
          <p:cNvPicPr/>
          <p:nvPr/>
        </p:nvPicPr>
        <p:blipFill>
          <a:blip r:embed="rId1"/>
          <a:stretch/>
        </p:blipFill>
        <p:spPr>
          <a:xfrm>
            <a:off x="0" y="0"/>
            <a:ext cx="1486080" cy="12938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1828800" y="2286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4" descr="Ychromosome2"/>
          <p:cNvPicPr/>
          <p:nvPr/>
        </p:nvPicPr>
        <p:blipFill>
          <a:blip r:embed="rId2"/>
          <a:stretch/>
        </p:blipFill>
        <p:spPr>
          <a:xfrm>
            <a:off x="7086600" y="4038480"/>
            <a:ext cx="1662120" cy="268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Object 6"/>
          <p:cNvGraphicFramePr/>
          <p:nvPr/>
        </p:nvGraphicFramePr>
        <p:xfrm>
          <a:off x="7238880" y="990720"/>
          <a:ext cx="124308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990720"/>
                    <a:ext cx="124308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8"/>
          <p:cNvSpPr/>
          <p:nvPr/>
        </p:nvSpPr>
        <p:spPr>
          <a:xfrm>
            <a:off x="8001000" y="1752480"/>
            <a:ext cx="53352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S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8007480" y="2286000"/>
            <a:ext cx="37728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XI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7925040" y="1143000"/>
            <a:ext cx="4885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R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7925040" y="3657600"/>
            <a:ext cx="4885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R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7253640" y="6324480"/>
            <a:ext cx="1683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Y chromoso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7234560" y="817560"/>
            <a:ext cx="169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</a:rPr>
              <a:t>Х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romoso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Ychromosome2"/>
          <p:cNvPicPr/>
          <p:nvPr/>
        </p:nvPicPr>
        <p:blipFill>
          <a:blip r:embed="rId1"/>
          <a:stretch/>
        </p:blipFill>
        <p:spPr>
          <a:xfrm>
            <a:off x="63360" y="1689120"/>
            <a:ext cx="3111480" cy="5016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3123720" y="182880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95% of the genes on the Y chromosome are located in pseudoautosomal region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ales have two copies of the pseudoautosomal region gene. One copy on the Y chromosome and the other on the X chromosom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here are 78 genes on the Y chromosome that determine the production of proteins necessary for all body cells, and others determine proteins that perform functions only in the testi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33520" y="3808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romosome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termines s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Ychromosome2"/>
          <p:cNvPicPr/>
          <p:nvPr/>
        </p:nvPicPr>
        <p:blipFill>
          <a:blip r:embed="rId1"/>
          <a:stretch/>
        </p:blipFill>
        <p:spPr>
          <a:xfrm>
            <a:off x="291960" y="1270080"/>
            <a:ext cx="2781360" cy="4851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428640" y="2666880"/>
            <a:ext cx="5715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of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ople with sex reversa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-men who have teste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Y- women who do not have test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819520" y="1270080"/>
            <a:ext cx="5715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548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p arm of the Y chromosome in region 11.3, there is the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RY gen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ex-determining region on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82548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RY gene participates in the differentiation of the test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480" y="91440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NDER - DIFFERENTIATION OF INDIVIDUALS INTO MALE AND FEMALE INDIVIDUAL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ex determin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Progamic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type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x can be predict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fore fertiliz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egg size (worms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otator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Epigamic type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x determination is perform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fter fertiliz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depends on the environmental condition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yngamic type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 sexual reproduction by union of gametes, resulting in the formation of a zygote. Determination of sex is perform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moment of fertiliz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It occurs in humans and domestic animals and is the most widespread type of sex determin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5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RY gen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X REGION ON 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300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Crucial for testes differentiation</a:t>
            </a:r>
            <a:br>
              <a:rPr sz="2200"/>
            </a:b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35.000 bp on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р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rm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romosome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encodes polypeptide (223 аmino acids) transriptional factor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ТDF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(testis-determining factor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its presence or absence determines whether the bipotential gonads will form a testis or an ovary.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5" descr="Sex Development | BioNinja"/>
          <p:cNvPicPr/>
          <p:nvPr/>
        </p:nvPicPr>
        <p:blipFill>
          <a:blip r:embed="rId1"/>
          <a:stretch/>
        </p:blipFill>
        <p:spPr>
          <a:xfrm>
            <a:off x="2333520" y="4471920"/>
            <a:ext cx="4476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Gene for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spermatogenesi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Gene for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H-Yc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antige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Gene for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growt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Gene for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theeth growt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Gene for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masculinis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762120" y="5335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s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 chromosom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04920" y="2742840"/>
            <a:ext cx="777240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SS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codes a nuclear hormone recepto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double dose of DSS always caused ovarian differenti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double dose on active X suppresses the effect of the SRY ge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DSS+S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DSS  or  2DSS+SRY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TEST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VA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0492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romos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7846920" y="1781280"/>
          <a:ext cx="1241640" cy="29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6920" y="1781280"/>
                    <a:ext cx="12416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5"/>
          <p:cNvSpPr/>
          <p:nvPr/>
        </p:nvSpPr>
        <p:spPr>
          <a:xfrm>
            <a:off x="8081280" y="2895480"/>
            <a:ext cx="41400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S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8083800" y="3429000"/>
            <a:ext cx="37728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XI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7451640" y="717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7490520" y="5127480"/>
            <a:ext cx="18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romoso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457200" y="16002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The most significant regions that play a role in ovarian differentiation are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Xq13-XIC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Xp21- DSS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responsible for sex differentiatio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28600" y="1905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WT1 gene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on chromosome 11p13 (involved in formation of Wilms' tumor, during embryogenesis expressed in genital fold, while at the fetal stage expressed in the gonads of both sexes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lays crucial role in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ovary differenti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SF1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cated on chromosome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9q33 (regulates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production of reproductive hormone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SOX9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located on17q24-25 (regulates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testis differentiation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 there are 14 SOX gene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61722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09480" y="5335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OSOMES ALSO PLAY A ROLE IN SEX DIFFERENTI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76320" y="12952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sr-RS" sz="2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sr-Latn-CS" sz="2200" spc="-1" strike="noStrike" u="sng">
                <a:solidFill>
                  <a:srgbClr val="c00000"/>
                </a:solidFill>
                <a:uFillTx/>
                <a:latin typeface="Arial"/>
              </a:rPr>
              <a:t>XX- male phenotyp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On the short arm of the X chromosome inherited from the father, there is a sequence of the Y chromosome that contains the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SRY gene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over 80%), which is a consequence of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irregular crossing over between X and Y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In 15-20%, the SRY sequence was not determined, and it is considered to be the result of a mutation on autosome 22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idenc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20 000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ewbor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hort statur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have test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use may be translocation between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X and 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676520" y="44460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UMAN SEX REVERSAL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Picture 5" descr="Wk 8 Sexual Differentiation Flashcards | Quizlet"/>
          <p:cNvPicPr/>
          <p:nvPr/>
        </p:nvPicPr>
        <p:blipFill>
          <a:blip r:embed="rId1"/>
          <a:srcRect l="75797" t="0" r="0" b="0"/>
          <a:stretch/>
        </p:blipFill>
        <p:spPr>
          <a:xfrm>
            <a:off x="8077320" y="1143000"/>
            <a:ext cx="876240" cy="1979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Genetic Syndromes Part 1 and 2 Dr Tabrez"/>
          <p:cNvPicPr/>
          <p:nvPr/>
        </p:nvPicPr>
        <p:blipFill>
          <a:blip r:embed="rId2"/>
          <a:srcRect l="11764" t="47718" r="17648" b="0"/>
          <a:stretch/>
        </p:blipFill>
        <p:spPr>
          <a:xfrm>
            <a:off x="6095880" y="4152960"/>
            <a:ext cx="2743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x-y"/>
          <p:cNvPicPr/>
          <p:nvPr/>
        </p:nvPicPr>
        <p:blipFill>
          <a:blip r:embed="rId1"/>
          <a:stretch/>
        </p:blipFill>
        <p:spPr>
          <a:xfrm>
            <a:off x="228600" y="990720"/>
            <a:ext cx="3581280" cy="55260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284" name=""/>
          <p:cNvSpPr txBox="1"/>
          <p:nvPr/>
        </p:nvSpPr>
        <p:spPr>
          <a:xfrm>
            <a:off x="3962160" y="1371240"/>
            <a:ext cx="4647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2d7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ly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ossing o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between pseudoautosomal regions on the X and Y chromos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By irregular </a:t>
            </a:r>
            <a:r>
              <a:rPr b="0" i="1" lang="sr-Latn-CS" sz="2400" spc="-1" strike="noStrike">
                <a:solidFill>
                  <a:srgbClr val="c00000"/>
                </a:solidFill>
                <a:latin typeface="Arial"/>
              </a:rPr>
              <a:t>crossing over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, the SRY gene moves to the X chromoso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401840"/>
            <a:ext cx="8229600" cy="49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May occur as a consequence of mosaicism (45,X0/46XY; demonstarted in one case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In the others, the sequence of the Y chromosome was detected on the autosome, but never on the X. It is the result of a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translocation between the Y and the short sequences of the autosom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If the translocation involves only the SRY gene, the man is infertile, there is no spermatogenesi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f the translocation involves a longer sequence (SRY and spermatogenesis gene), the male is phenotypically normal and fertil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A small number of people have sex revers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51460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533520" y="533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45,ХО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Y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emale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us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SRY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letion or point mut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x DSS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uplication on X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SOX9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le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onad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ovary 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nital duc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fema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heno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female,  amenorrhea, infertile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ess pronounced secondary sex characteristic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PURE GONADAL DYSGENESIS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o physical features of Turner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follicle atresia is accelerat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5" descr="Wk 8 Sexual Differentiation Flashcards | Quizlet"/>
          <p:cNvPicPr/>
          <p:nvPr/>
        </p:nvPicPr>
        <p:blipFill>
          <a:blip r:embed="rId1"/>
          <a:srcRect l="44214" t="0" r="24211" b="0"/>
          <a:stretch/>
        </p:blipFill>
        <p:spPr>
          <a:xfrm>
            <a:off x="7213680" y="1066680"/>
            <a:ext cx="116028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HERMAPHRODITIS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EUDOHERMAPHRODITIS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914400" y="53352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MAPHRODIT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SEX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 HERMAPHRODITIS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onads: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vary + testis  (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OVOTEST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nital ducts: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ixed (uterus ?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External genitalia: ambivalent (indeterminate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y are raised in the male gender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romosomal constitution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 (60%) 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/XY result of chimerism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RR BODY - SEX CHROMATI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1905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though female mammals have two X chromosomes and males only one, there is no difference in the expression of genes linked to the X chromosome – this is known as gene compensatio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ry Lyon (1961, 1963) – formulated hypothesis about gene dosage compens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Barr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Bertram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1949) – Barr bod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Barr body is clearly visible in the interphase nuclei of somatic cells of women, it is stained dark and replicates in the late S phas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28600" y="18288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romosomal constitution: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X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Gonad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st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Genital ducts: /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Phenotype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amenorea, infertilit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no Barr bod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Cause: MUTATION OF THE GENE FOR THE TESTOSTERONE RECEPTOR (Xq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6" descr="test-fem"/>
          <p:cNvPicPr/>
          <p:nvPr/>
        </p:nvPicPr>
        <p:blipFill>
          <a:blip r:embed="rId1"/>
          <a:stretch/>
        </p:blipFill>
        <p:spPr>
          <a:xfrm>
            <a:off x="5465880" y="1920960"/>
            <a:ext cx="2403360" cy="44337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sp>
        <p:nvSpPr>
          <p:cNvPr id="297" name="Text Box 7"/>
          <p:cNvSpPr/>
          <p:nvPr/>
        </p:nvSpPr>
        <p:spPr>
          <a:xfrm>
            <a:off x="304920" y="53352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LE PSEUDOHERMAPHRODIT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ICULAR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MINISATION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MALE PSEUDOHERMAPHRODITIS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1295280"/>
            <a:ext cx="769644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CONGENITAL ADRENAL HYPERPLASIA (adreno-genital syndrome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romosomal constitution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6, XX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onad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var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nital duct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henotype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ndifferentiated sex organ, masculinized bod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cretion of male sex hormones from the enlarged cortex of the adrenal glan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: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21-OH or CYP21 gene mutation on chromosome 6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lack of 21-hydroxylase enzyme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5" descr="Image Preview"/>
          <p:cNvPicPr/>
          <p:nvPr/>
        </p:nvPicPr>
        <p:blipFill>
          <a:blip r:embed="rId1">
            <a:lum contrast="-2000"/>
          </a:blip>
          <a:stretch/>
        </p:blipFill>
        <p:spPr>
          <a:xfrm>
            <a:off x="1371600" y="1143000"/>
            <a:ext cx="5486400" cy="5715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MALE PSEUDOHERMAPHRODIT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28600" y="30456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Human somatic cells in interphas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5" descr="Barr_Bodies"/>
          <p:cNvPicPr/>
          <p:nvPr/>
        </p:nvPicPr>
        <p:blipFill>
          <a:blip r:embed="rId1"/>
          <a:stretch/>
        </p:blipFill>
        <p:spPr>
          <a:xfrm>
            <a:off x="0" y="2286000"/>
            <a:ext cx="91947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CONCLUSIONS OF MARY LYON HYPOTHESIS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body cells of mammals,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only one X chromosome is always 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active X chromosome originate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either from the father or from the mo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different cells of the sam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activation of the X chromosome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occurs in early embryonic develop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etween the 15th and 16th day of gestation) and all cells that originate from that cell have the same active or inactive X chromoso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8680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econd conclusion- X inactivation mosaic 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8" descr="The Chromosomal Basis of Inheritance - ppt download"/>
          <p:cNvPicPr/>
          <p:nvPr/>
        </p:nvPicPr>
        <p:blipFill>
          <a:blip r:embed="rId1"/>
          <a:srcRect l="23337" t="0" r="23337" b="0"/>
          <a:stretch/>
        </p:blipFill>
        <p:spPr>
          <a:xfrm>
            <a:off x="5334120" y="1787400"/>
            <a:ext cx="3832200" cy="4043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The Lyon Hypothesis: Is Low-Level Ionizing Radiation Really Linked To An  Increased Risk Of Cancer? – tourisme83.com"/>
          <p:cNvPicPr/>
          <p:nvPr/>
        </p:nvPicPr>
        <p:blipFill>
          <a:blip r:embed="rId2"/>
          <a:stretch/>
        </p:blipFill>
        <p:spPr>
          <a:xfrm>
            <a:off x="0" y="1787400"/>
            <a:ext cx="539100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8951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rner syndrom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45, XО (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n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Barr bod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linefelter syndrome- 47, XXY (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Barr bod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Triple X syndrome- 47,XXX (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arr bodi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rmal woman- 46,X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rr bod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04920" y="2362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DROMES THAT CONFIRM THE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33520" y="5335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al wom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6,X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rr bo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al m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– 46, XY (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n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Barr bod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SADVANTAGES OF THE HYPOTHESIS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If the entire X chromosome is inactivated there should be no difference between a normal woman and a woman with Turner syndrome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Heterozygotes for certain genes located on X chromosomes are functional mosaic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For example. enzyme glucose-6-phosphate-dehydrogenase (G6PD). Men with one X chromosome have only one variant of the enzyme, while women, due to the presence of two X chromosomes, have two forms of the same enzym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28240" y="213336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There is an active region on the inactive X chromosome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899172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y Lyon (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197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29:07Z</dcterms:created>
  <dc:creator>prodekan 01</dc:creator>
  <dc:description/>
  <dc:language>en-US</dc:language>
  <cp:lastModifiedBy>Microsoft Office User</cp:lastModifiedBy>
  <dcterms:modified xsi:type="dcterms:W3CDTF">2024-02-14T07:51:55Z</dcterms:modified>
  <cp:revision>274</cp:revision>
  <dc:subject/>
  <dc:title>V-   MEHANIZAM DETERMINACIJE POLA</dc:title>
</cp:coreProperties>
</file>